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C8B53C-D851-4614-8FBB-22388E9E254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4C8CAD-713A-4714-B9DA-82A864A8E31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F516BD-4CB1-4E0B-93FE-F7F077641F7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0DE1-7224-4995-902E-33845C221B7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94B94C-BE5C-419E-9020-577B7E8FC9B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3273-472C-4B2A-94FE-525462D6D03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D4ED-50D0-4A4A-A8C8-9F05E0E6793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1F46-D96F-46A0-B4A3-4D38E5150B7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6CB7-AB04-4D97-904C-B88A202CFC6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F3D2-6657-420D-9BEE-413E542B29E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5048-923D-4A72-A3CF-808B9C8BF74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9389E49-CB43-4D3E-B943-453C592C77A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7ED2-FCFD-453A-906D-15594AE2C7B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27F1D47-4C32-4B83-8948-9CB0E3BEA14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B5A73-2D78-4727-9BFF-0D58D7008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FDE89-39B5-4202-AAB0-E519F0892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D7DEF-D2A4-4247-A9B8-B6E62DCE7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9AC23-7799-4DB4-927B-19C9D9DDA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1463-731A-4DC8-9E34-D87CF4FD7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EC485-9387-4E46-81D3-4E9B4CB98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3EE20-E214-4300-9721-27DBEEBBF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5AFA7-3953-498F-9891-2B6B5746E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3157-FC12-496F-BD0E-E805AFC5F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B4D0-71F6-4AAE-A4ED-3B626025C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2362D-CDFB-4817-B3F2-AA0E7391E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10EED-6EB8-48D0-9D98-1C7ADAD03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7D9A-62F9-47EE-A8ED-E68AB8A93820}" type="datetime">
              <a:rPr b="0" lang="en-US" sz="1200" spc="-1" strike="noStrike">
                <a:solidFill>
                  <a:srgbClr val="898989"/>
                </a:solidFill>
                <a:latin typeface="Calibri"/>
              </a:rPr>
              <a:t>07/30/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852B-5900-4E01-8750-D344EBFF4E5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C6BB-B9E3-46C1-A160-8EFEEA5C843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CFC6-AD72-4A46-85A4-AB049F99119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F131-97DC-4E8D-B735-259600F3609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BA30-DA6B-4104-8949-D4005A5FFC3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4289-36C6-46E1-99D7-467873D4297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B5ED-3064-4A7E-811D-03639A99A7E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2E6E-2772-4FC4-BAE0-2E65A1DCB70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C377-DEAA-40F5-B4D4-4FD0E3B6F79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6C5A-EBF4-45F1-9085-9ABE34649A4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721E-2663-4746-95A8-8BB6D2C1433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775E-BBED-4209-BDCE-07FABD918CD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285F-FE61-437E-892A-BD0323A0701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22A0-CD86-49D7-A969-37F4EE3D7A4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6308-3FEB-4629-9C81-A682E250D0A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4613-B0DB-4998-B01C-978DC34D5B1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5F85-6F96-41CB-B43D-A9F0DAE2718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01F6-4D00-468C-A861-0F8B156A1FE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66E8-3581-48C5-88A2-007A0A17A35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DE79-AB8E-46C4-9001-22425A4D7C5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F432-8E7B-4EA6-93BB-15052044C6A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111D-22AE-4DBA-9EEF-E23963E5520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